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05B00-8B19-40C0-9BF3-71E5DB473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92C7F-A4AD-48FE-9255-610CBDC69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F635A-C1E8-47F6-A8BD-81CFC4FA8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3D4EC-BE16-4E26-A1AA-9891C1838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110B8-AF32-41F2-9EAC-B381BAE04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2FE01-93C4-4DC0-A543-70022DA83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0D0FD-0C3F-48C0-9065-E4775EF6F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09CC7-5E3D-4A14-A68A-0DD47F18A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747AD-85AF-4223-AB0B-DBBDF851B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B2E98-55C4-4773-960E-6301E1E0D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3C8F2-5EF6-425D-A759-B024CFC9D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F29FE-5D7E-4D1B-8D39-AF5326EFF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50000">
              <a:srgbClr val="ff8200"/>
            </a:gs>
            <a:gs pos="100000">
              <a:srgbClr val="00008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CE4C7-64A1-43C2-B099-EB154D41A6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freeplaymusic.com/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eb.mit.edu/invent/iow/gabor.html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82"/>
            </a:gs>
            <a:gs pos="50000">
              <a:srgbClr val="ff8200"/>
            </a:gs>
            <a:gs pos="100000">
              <a:srgbClr val="00008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324480" y="4724280"/>
            <a:ext cx="24386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Impact"/>
              </a:rPr>
              <a:t>AJ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Impact"/>
              </a:rPr>
              <a:t>4-27-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Impact"/>
              </a:rPr>
              <a:t>Period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609480"/>
            <a:ext cx="7543800" cy="2438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5dfc04">
                    <a:alpha val="65000"/>
                  </a:srgbClr>
                </a:solidFill>
                <a:latin typeface="Impact"/>
              </a:rPr>
              <a:t>Holograms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5dfc04">
                  <a:alpha val="65000"/>
                </a:srgbClr>
              </a:solidFill>
              <a:latin typeface="Impact"/>
              <a:ea typeface="Impact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8686800" y="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609480" y="5105520"/>
            <a:ext cx="5257800" cy="6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Impact"/>
              </a:rPr>
              <a:t>music,: free play music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Impact"/>
              </a:rPr>
              <a:t>Bad Road,</a:t>
            </a:r>
            <a:r>
              <a:rPr b="0" lang="en-US" sz="1800" spc="-1" strike="noStrike">
                <a:solidFill>
                  <a:srgbClr val="000000"/>
                </a:solidFill>
                <a:latin typeface="Impact"/>
              </a:rPr>
              <a:t> 5/7/2010,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Impact"/>
                <a:hlinkClick r:id="rId2"/>
              </a:rPr>
              <a:t>www.freeplaymusic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 repeatCount="1000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50000">
              <a:srgbClr val="ff8200"/>
            </a:gs>
            <a:gs pos="100000">
              <a:srgbClr val="00008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Epperson"/>
          <p:cNvPicPr/>
          <p:nvPr/>
        </p:nvPicPr>
        <p:blipFill>
          <a:blip r:embed="rId1"/>
          <a:srcRect l="58835" t="3813" r="0" b="0"/>
          <a:stretch/>
        </p:blipFill>
        <p:spPr>
          <a:xfrm>
            <a:off x="3962520" y="304920"/>
            <a:ext cx="4876560" cy="35114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4648320" y="6019920"/>
            <a:ext cx="4495680" cy="95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Impact"/>
              </a:rPr>
              <a:t>Lemelson MIT Program,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Impact"/>
              </a:rPr>
              <a:t> Hologram</a:t>
            </a:r>
            <a:r>
              <a:rPr b="0" lang="en-US" sz="1800" spc="-1" strike="noStrike">
                <a:solidFill>
                  <a:srgbClr val="000000"/>
                </a:solidFill>
                <a:latin typeface="Impact"/>
              </a:rPr>
              <a:t>, 5 -10-2010,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Impact"/>
                <a:hlinkClick r:id="rId2"/>
              </a:rPr>
              <a:t>http://web.mit.edu/invent/iow/gabor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47920" y="4267080"/>
            <a:ext cx="5638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Impact"/>
              </a:rPr>
              <a:t>The hologram is an amazing technological advanc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82"/>
            </a:gs>
            <a:gs pos="50000">
              <a:srgbClr val="ff8200"/>
            </a:gs>
            <a:gs pos="100000">
              <a:srgbClr val="00008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Impact"/>
              </a:rPr>
              <a:t>Invention: Hologr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A hologram is formed when the interference of two waves of light are recorded on a piece of fi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Holography had been experimented on since 195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It wasn’t until   when Dennis Gabor came around with a developed laser it worked 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To day it has many uses such as measuring in particle physics and as bar code read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82"/>
            </a:gs>
            <a:gs pos="50000">
              <a:srgbClr val="ff8200"/>
            </a:gs>
            <a:gs pos="100000">
              <a:srgbClr val="00008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Impact"/>
              </a:rPr>
              <a:t>Inventor: Dennis Gab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Impact"/>
              </a:rPr>
              <a:t>Dennis was born in Budapest, Hung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Impact"/>
              </a:rPr>
              <a:t>Dennis Was born on June 5, 190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Impact"/>
              </a:rPr>
              <a:t>He went to Berlin, Germany to get his doctoral and bachelors deg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Impact"/>
              </a:rPr>
              <a:t>He left Germany in 1933 when Hitler was coming to pow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Impact"/>
              </a:rPr>
              <a:t>He also tried to develop things such as a holographic microscope, a thermionic converter, an electron-velocity spectroscope, and finally a flat color television tu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Impac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Impact"/>
              </a:rPr>
              <a:t>He received a Nobel Peace Award for phys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Impact"/>
              </a:rPr>
              <a:t>Dennis Gabor died in London in 1979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7T17:40:28Z</dcterms:created>
  <dc:creator>install</dc:creator>
  <dc:description/>
  <dc:language>en-US</dc:language>
  <cp:lastModifiedBy>install</cp:lastModifiedBy>
  <dcterms:modified xsi:type="dcterms:W3CDTF">2010-05-12T17:38:55Z</dcterms:modified>
  <cp:revision>10</cp:revision>
  <dc:subject/>
  <dc:title>Slide 1</dc:title>
</cp:coreProperties>
</file>